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64B4-5C60-49BD-A4A9-B581C119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107B-8CA4-4BB6-98DD-A81AB7EA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0DC-7937-4ACE-9425-3C314CDE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529-D970-4DB1-AD87-E9F146BC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B0B-482A-4897-84DE-8DDDBB31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9050-86A8-4F2B-BB6B-F36CAA77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CA34-A914-4CBA-935A-DF882E4E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D566-39EB-4F4A-A787-D2A9B92F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302C-3CC5-447E-B99E-9240CE60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9FC8-A6C8-4C19-85CA-2C4A23CE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E2EF-DEA3-45A1-9AF1-392A0CC8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956-E315-406A-8774-9AD07431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928A-F51D-4FA1-9179-BC06490DB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 a “Sna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say the word that appears before I 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it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know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er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a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a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ak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abou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onl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es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bee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coul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oul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32:00Z</dcterms:created>
  <dc:creator>Wake County Public Schools</dc:creator>
  <dc:description/>
  <dc:language>en-US</dc:language>
  <cp:lastModifiedBy>jabdella</cp:lastModifiedBy>
  <dcterms:modified xsi:type="dcterms:W3CDTF">2010-02-14T18:44:05Z</dcterms:modified>
  <cp:revision>4</cp:revision>
  <dc:subject/>
  <dc:title>Words in a “Snap”</dc:title>
</cp:coreProperties>
</file>